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80238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0400" cy="9212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980400" cy="9212400"/>
          </a:xfrm>
          <a:custGeom>
            <a:avLst/>
            <a:gdLst>
              <a:gd name="textAreaLeft" fmla="*/ 360 w 6980400"/>
              <a:gd name="textAreaRight" fmla="*/ 6980040 w 6980400"/>
              <a:gd name="textAreaTop" fmla="*/ 360 h 9212400"/>
              <a:gd name="textAreaBottom" fmla="*/ 9212040 h 9212400"/>
            </a:gdLst>
            <a:ahLst/>
            <a:rect l="textAreaLeft" t="textAreaTop" r="textAreaRight" b="textAreaBottom"/>
            <a:pathLst>
              <a:path w="21600" h="28506">
                <a:moveTo>
                  <a:pt x="4" y="0"/>
                </a:moveTo>
                <a:arcTo wR="4" hR="4" stAng="16200000" swAng="-5400000"/>
                <a:lnTo>
                  <a:pt x="0" y="28502"/>
                </a:lnTo>
                <a:arcTo wR="4" hR="4" stAng="10800000" swAng="-5400000"/>
                <a:lnTo>
                  <a:pt x="21596" y="28506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256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56040" y="0"/>
            <a:ext cx="302256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86920" y="690480"/>
            <a:ext cx="4604040" cy="345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29880" y="4375080"/>
            <a:ext cx="5118120" cy="4145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748720"/>
            <a:ext cx="302256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56040" y="8748720"/>
            <a:ext cx="3022560" cy="458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ADEDE2-1684-4C4F-A685-778E47EA6D7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87280" y="690480"/>
            <a:ext cx="4604040" cy="34545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29880" y="4375080"/>
            <a:ext cx="5118120" cy="4145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icy established by the Com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nge - at every level compartmentalised policy development and decision-making are no longer adequate. Interactions must be understood and taken into account; common tools developed; synergies identified and exploited; and conflicts avoided or res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87280" y="690480"/>
            <a:ext cx="4604040" cy="34545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29880" y="4375080"/>
            <a:ext cx="5118120" cy="41450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unication and accompanying Action Plan list a range of concrete actions to be launched during the mandate of this Commission. These actions cover a wide spectrum of issues ranging from maritime transport to the competitiveness of maritime businesses, employment, scientific research, fisheries and the protection of the marin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0FF2-9848-4B44-B10F-DD1A9BBCA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43585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B975-E62D-403C-8E19-9DDCDB86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1440" y="22096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43585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1440" y="43585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6441-FDE7-424D-9B57-83B22E678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120" y="22096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64400" y="22096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43585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120" y="43585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64400" y="43585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5A49-4682-40E3-9ED8-10AF2E44E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22096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1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8F25-4779-4CD2-AF3B-E0CB3A58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0853-1EE0-498D-BA69-6269375E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1440" y="22096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C8B0-DC94-4032-BB7F-7E1C3A9F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EED8-34E6-4483-B3AC-552606C5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1143000"/>
            <a:ext cx="777096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1000"/>
              </a:lnSpc>
              <a:spcBef>
                <a:spcPts val="4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2581-63A4-447F-8F59-4891DF70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1440" y="22096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43585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1E89-6084-4F0B-A37F-A739C95B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1440" y="22096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1440" y="43585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49B9-ABF9-4518-A95F-26AA64C0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1440" y="22096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43585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1000"/>
              </a:lnSpc>
              <a:spcBef>
                <a:spcPts val="4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8232-D6FF-4BFD-8E92-0C43567E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22096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1240" indent="-28404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2" marL="1143000" indent="-22860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3" marL="1600200" indent="-22860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4" marL="2057400" indent="-22860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5" marL="2057400" indent="-22860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6" marL="2057400" indent="-228600">
              <a:lnSpc>
                <a:spcPct val="101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4767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4767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en-GB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457840" y="3429000"/>
            <a:ext cx="68436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en-GB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68D7CE5-59AA-46E4-B5D8-07BE20D0A740}" type="slidenum">
              <a:rPr b="1" lang="en-GB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1280" y="1492200"/>
            <a:ext cx="3962520" cy="16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81280" y="1187280"/>
            <a:ext cx="5023080" cy="23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2b71"/>
                </a:solidFill>
                <a:latin typeface="Verdana"/>
              </a:rPr>
              <a:t>Integrated Maritime Polic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002b71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Paris – 29</a:t>
            </a:r>
            <a:r>
              <a:rPr b="1" lang="en-US" sz="2400" spc="-1" strike="noStrike" baseline="30000">
                <a:solidFill>
                  <a:srgbClr val="ff6600"/>
                </a:solidFill>
                <a:latin typeface="Verdana"/>
              </a:rPr>
              <a:t>th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 June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1288-2D63-4C93-B3A3-D3B8D967EC8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78c7"/>
                </a:solidFill>
                <a:latin typeface="Verdana"/>
              </a:rPr>
              <a:t>European Commission Communication “Blue Book”</a:t>
            </a:r>
            <a:endParaRPr b="1" lang="en-US" sz="24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5042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blished 10.10.2007 known as COM(2007) 575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communication (Parliament, the Council, the Economic and Social Committee and the Committee of the Regions.)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es through the policy:</a:t>
            </a:r>
            <a:endParaRPr b="0" lang="en-US" sz="24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ange in policy and taking decisions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elops and delivers a programme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867280" y="2133720"/>
            <a:ext cx="2813040" cy="1979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867280" y="4076640"/>
            <a:ext cx="2808360" cy="23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096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Blue Book - Programme of work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844640"/>
            <a:ext cx="7770960" cy="4478400"/>
          </a:xfrm>
          <a:prstGeom prst="rect">
            <a:avLst/>
          </a:prstGeom>
          <a:noFill/>
          <a:ln w="9360">
            <a:solidFill>
              <a:srgbClr val="cc3300"/>
            </a:solidFill>
            <a:round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b71"/>
                </a:solidFill>
                <a:latin typeface="Verdana"/>
              </a:rPr>
              <a:t>A European Maritime Transport Space without barriers 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marL="341280" indent="-341280">
              <a:lnSpc>
                <a:spcPct val="9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Verdana"/>
              </a:rPr>
              <a:t>A European Strategy for Marine Research 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marL="341280" indent="-341280">
              <a:lnSpc>
                <a:spcPct val="9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b71"/>
                </a:solidFill>
                <a:latin typeface="Verdana"/>
              </a:rPr>
              <a:t>National integrated maritime policies to be developed by Member States 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marL="341280" indent="-341280">
              <a:lnSpc>
                <a:spcPct val="9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Verdana"/>
              </a:rPr>
              <a:t>A European network for maritime surveillance 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1280" indent="-341280">
              <a:lnSpc>
                <a:spcPct val="9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b71"/>
                </a:solidFill>
                <a:latin typeface="Verdana"/>
              </a:rPr>
              <a:t>A Roadmap towards maritime spatial planning by Member States 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marL="341280" indent="-341280">
              <a:lnSpc>
                <a:spcPct val="9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Verdana"/>
              </a:rPr>
              <a:t>A Strategy to mitigate the effects of Climate Change on coastal regions. 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marL="341280" indent="-341280">
              <a:lnSpc>
                <a:spcPct val="9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2b71"/>
                </a:solidFill>
                <a:latin typeface="Verdana"/>
              </a:rPr>
              <a:t>A European Marine Observation and Data Network 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marL="341280" indent="-341280">
              <a:lnSpc>
                <a:spcPct val="9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Verdana"/>
              </a:rPr>
              <a:t>Elimination of pirate fishing and destructive high seas bottom trawling 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marL="341280" indent="-341280">
              <a:lnSpc>
                <a:spcPct val="9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Verdana"/>
              </a:rPr>
              <a:t>Promotion of a European network of maritime clusters 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  <a:p>
            <a:pPr marL="341280" indent="-341280">
              <a:lnSpc>
                <a:spcPct val="9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Verdana"/>
              </a:rPr>
              <a:t>A review of EU labour law exemptions for the shipping and fishing sectors </a:t>
            </a:r>
            <a:endParaRPr b="0" lang="en-US" sz="1800" spc="-1" strike="noStrike">
              <a:solidFill>
                <a:srgbClr val="002b7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78c7"/>
                </a:solidFill>
                <a:latin typeface="Verdana"/>
              </a:rPr>
              <a:t>Council response to the Commission on EU maritime transport policy to 2018 </a:t>
            </a:r>
            <a:endParaRPr b="1" lang="en-US" sz="24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2935th TRANSPORT, TELECOMMUMICATIONS and ENERGY Council meeting, 30 March 2009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002b71"/>
                </a:solidFill>
                <a:latin typeface="Verdana"/>
              </a:rPr>
              <a:t>work actively towards the development of an integrated EU maritime information and traffic surveillance system, building upon the most recent tools available, such as </a:t>
            </a:r>
            <a:r>
              <a:rPr b="1" lang="en-US" sz="2000" spc="-1" strike="noStrike" u="sng">
                <a:solidFill>
                  <a:srgbClr val="002b71"/>
                </a:solidFill>
                <a:uFillTx/>
                <a:latin typeface="Verdana"/>
              </a:rPr>
              <a:t>AIS, LRIT, SafeSeaNet and CleanSeaNet,</a:t>
            </a:r>
            <a:r>
              <a:rPr b="1" lang="en-US" sz="2000" spc="-1" strike="noStrike">
                <a:solidFill>
                  <a:srgbClr val="002b71"/>
                </a:solidFill>
                <a:latin typeface="Verdana"/>
              </a:rPr>
              <a:t> or those that are being developed, such as Galileo and GMES.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096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Existing EU mandate for SafeSeaNet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777060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Existing Directive 2002/59/EC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1280" indent="-34128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Articles 1, 9 and 23.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3068640"/>
            <a:ext cx="77706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Current rea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3933720"/>
            <a:ext cx="777060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0760" indent="-32076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afeSeaNet already is an extensive, operational network, integrated with M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Supported by 24/7 services (data quality, helpdesk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LRIT, STIRES, CS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EMSA-Frontex agreement on co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760" indent="-320760">
              <a:lnSpc>
                <a:spcPct val="10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2b71"/>
                </a:solidFill>
                <a:latin typeface="Verdana"/>
              </a:rPr>
              <a:t>A program for further improvement and integration of new services (THETI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7096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78c7"/>
                </a:solidFill>
                <a:latin typeface="Verdana"/>
              </a:rPr>
              <a:t>SafeSeaNet provides a</a:t>
            </a:r>
            <a:endParaRPr b="1" lang="en-US" sz="2800" spc="-1" strike="noStrike">
              <a:solidFill>
                <a:srgbClr val="0078c7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988640"/>
            <a:ext cx="7770960" cy="43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System with a legal mandate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1280" indent="-341280">
              <a:lnSpc>
                <a:spcPct val="9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Open platform for electronic information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1280" indent="-341280">
              <a:lnSpc>
                <a:spcPct val="9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Secure system ensuring confidentiality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1280" indent="-341280">
              <a:lnSpc>
                <a:spcPct val="9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Means to deal with real time information (STIRES) or discrete messages (notifications on voyages)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marL="341280" indent="-341280">
              <a:lnSpc>
                <a:spcPct val="9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Incorporates systems that can with information: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1240" indent="-284040">
              <a:lnSpc>
                <a:spcPct val="9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Filter it, keeping it distinct and separate for  authorised users/user groups;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1240" indent="-284040">
              <a:lnSpc>
                <a:spcPct val="9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Verify its quality against other sensors &amp; DBs;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1240" indent="-284040">
              <a:lnSpc>
                <a:spcPct val="9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Integrate and exchange it with other sources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1240" indent="-284040">
              <a:lnSpc>
                <a:spcPct val="9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Visualise it; and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  <a:p>
            <a:pPr lvl="1" marL="741240" indent="-284040">
              <a:lnSpc>
                <a:spcPct val="91000"/>
              </a:lnSpc>
              <a:spcBef>
                <a:spcPts val="499"/>
              </a:spcBef>
              <a:buClr>
                <a:srgbClr val="002b71"/>
              </a:buClr>
              <a:buFont typeface="Verdana"/>
              <a:buChar char="–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2000" spc="-1" strike="noStrike">
                <a:solidFill>
                  <a:srgbClr val="002b71"/>
                </a:solidFill>
                <a:latin typeface="Verdana"/>
              </a:rPr>
              <a:t>Process it and/or use applications.</a:t>
            </a:r>
            <a:endParaRPr b="0" lang="en-US" sz="2000" spc="-1" strike="noStrike">
              <a:solidFill>
                <a:srgbClr val="002b7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39640" y="1268280"/>
            <a:ext cx="8064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1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8c7"/>
                </a:solidFill>
                <a:latin typeface="Verdana"/>
              </a:rPr>
              <a:t>CSN: Ship detection SAR images and ST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93840" y="1916280"/>
            <a:ext cx="360360" cy="1008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81120" y="2133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800" spc="-1" strike="noStrike">
                <a:solidFill>
                  <a:srgbClr val="ffffff"/>
                </a:solidFill>
                <a:latin typeface="Verdana"/>
              </a:rPr>
              <a:t>12 N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4005360"/>
            <a:ext cx="36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ENVISAT 12 April 2008 20:16:53 UT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95280" y="2133720"/>
            <a:ext cx="4176720" cy="3747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716360" y="2133720"/>
            <a:ext cx="4032360" cy="3800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95280" y="5877000"/>
            <a:ext cx="41767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Radarsat 1 – ScanSAR Narrow (300 Km x 300 K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76720" y="5877000"/>
            <a:ext cx="35276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ip detection result in C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8458200" y="3429000"/>
            <a:ext cx="685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A86D-EAAD-4208-AAF1-2BBF0FB3AD15}" type="slidenum">
              <a:rPr b="1" lang="en-US" sz="9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</cp:lastModifiedBy>
  <dcterms:modified xsi:type="dcterms:W3CDTF">2009-06-28T22:15:32Z</dcterms:modified>
  <cp:revision>262</cp:revision>
  <dc:subject/>
  <dc:title>Slide 1</dc:title>
</cp:coreProperties>
</file>